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943F-8D8E-4B9E-B038-6F5E06B1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CB30-CC3D-4D9E-8829-E000AE4D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E0FB-DB8F-4756-841F-5F13CA4B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78FA-456B-49DB-8A3E-CF652044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10A7-77BD-4C09-8C05-A751CA71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3271-03A1-47CC-B8EA-FB3A242B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693B-160F-464E-86CD-E1BA41AE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767D-FE2A-439E-B7AF-DFA43213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EA06-0757-4818-A42A-586C3193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408E-18EE-461F-A54B-61FB7B24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BC60-053D-4E15-B1B1-FBA1C51F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A72C-A34E-4AAD-B29C-1718371F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C4E0-1986-417E-9F2A-C4AB61F5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23E8-EBBF-4055-94A8-7EEB47E6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FBDF-2E98-4648-A085-F0450CA0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57BC-C1C3-4B21-8D2C-35B79715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7C04-A892-4FD1-8B4F-301E6F3F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BCF1-AB54-4DBE-B8C7-85F566F7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B68E-9743-44BA-BF6F-3FF14827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3E1F-1DA4-4983-859C-BEDC7F38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6494-AD72-4A20-BE97-D8BA45D2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FA66-A78C-46C6-A831-79C51B1B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3335-E4F5-4FE1-8FC0-15F55D6A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CAFD-836A-4F1A-875A-8CFACE61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4FAF-AAC8-4BB8-8C63-A2C985DAC5C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8155-424A-40C8-A407-96BC889F21E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99"/>
                </a:solidFill>
                <a:latin typeface="Monotype Corsiva"/>
              </a:rPr>
              <a:t>В и д ы    с п о р т а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114800" y="4495320"/>
            <a:ext cx="5029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Презентацию выполнила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Елфимова Анастасия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студентка 617 групп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Х </a:t>
            </a:r>
            <a:r>
              <a:rPr b="1" i="1" lang="en-US" sz="6000" spc="-1" strike="noStrike">
                <a:solidFill>
                  <a:srgbClr val="ffff99"/>
                </a:solidFill>
                <a:latin typeface="Monotype Corsiva"/>
              </a:rPr>
              <a:t>у д о ж е с т в е н н а я    </a:t>
            </a:r>
            <a:br>
              <a:rPr sz="6000"/>
            </a:br>
            <a:r>
              <a:rPr b="1" i="1" lang="en-US" sz="6000" spc="-1" strike="noStrike">
                <a:solidFill>
                  <a:srgbClr val="ffff99"/>
                </a:solidFill>
                <a:latin typeface="Monotype Corsiva"/>
              </a:rPr>
              <a:t>г и м н а с т и к а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2514600" cy="3809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 rot="1287600">
            <a:off x="2362320" y="1904760"/>
            <a:ext cx="2085840" cy="2170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 rot="21289800">
            <a:off x="4425480" y="3374640"/>
            <a:ext cx="4496040" cy="3254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 rot="20485800">
            <a:off x="2674800" y="4082760"/>
            <a:ext cx="17161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99"/>
                </a:solidFill>
                <a:latin typeface="Monotype Corsiva"/>
              </a:rPr>
              <a:t>С п а с и б о    з а    в н и м а н и е !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095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99"/>
                </a:solidFill>
                <a:latin typeface="Monotype Corsiva"/>
              </a:rPr>
              <a:t>Ф</a:t>
            </a:r>
            <a:r>
              <a:rPr b="1" i="1" lang="en-US" sz="6000" spc="-1" strike="noStrike">
                <a:solidFill>
                  <a:srgbClr val="ffff99"/>
                </a:solidFill>
                <a:latin typeface="Monotype Corsiva"/>
              </a:rPr>
              <a:t> </a:t>
            </a:r>
            <a:r>
              <a:rPr b="1" i="1" lang="ru-RU" sz="6000" spc="-1" strike="noStrike">
                <a:solidFill>
                  <a:srgbClr val="ffff99"/>
                </a:solidFill>
                <a:latin typeface="Monotype Corsiva"/>
              </a:rPr>
              <a:t>у</a:t>
            </a:r>
            <a:r>
              <a:rPr b="1" i="1" lang="en-US" sz="6000" spc="-1" strike="noStrike">
                <a:solidFill>
                  <a:srgbClr val="ffff99"/>
                </a:solidFill>
                <a:latin typeface="Monotype Corsiva"/>
              </a:rPr>
              <a:t> </a:t>
            </a:r>
            <a:r>
              <a:rPr b="1" i="1" lang="ru-RU" sz="6000" spc="-1" strike="noStrike">
                <a:solidFill>
                  <a:srgbClr val="ffff99"/>
                </a:solidFill>
                <a:latin typeface="Monotype Corsiva"/>
              </a:rPr>
              <a:t>т</a:t>
            </a:r>
            <a:r>
              <a:rPr b="1" i="1" lang="en-US" sz="6000" spc="-1" strike="noStrike">
                <a:solidFill>
                  <a:srgbClr val="ffff99"/>
                </a:solidFill>
                <a:latin typeface="Monotype Corsiva"/>
              </a:rPr>
              <a:t> </a:t>
            </a:r>
            <a:r>
              <a:rPr b="1" i="1" lang="ru-RU" sz="6000" spc="-1" strike="noStrike">
                <a:solidFill>
                  <a:srgbClr val="ffff99"/>
                </a:solidFill>
                <a:latin typeface="Monotype Corsiva"/>
              </a:rPr>
              <a:t>б</a:t>
            </a:r>
            <a:r>
              <a:rPr b="1" i="1" lang="en-US" sz="6000" spc="-1" strike="noStrike">
                <a:solidFill>
                  <a:srgbClr val="ffff99"/>
                </a:solidFill>
                <a:latin typeface="Monotype Corsiva"/>
              </a:rPr>
              <a:t> </a:t>
            </a:r>
            <a:r>
              <a:rPr b="1" i="1" lang="ru-RU" sz="6000" spc="-1" strike="noStrike">
                <a:solidFill>
                  <a:srgbClr val="ffff99"/>
                </a:solidFill>
                <a:latin typeface="Monotype Corsiva"/>
              </a:rPr>
              <a:t>о</a:t>
            </a:r>
            <a:r>
              <a:rPr b="1" i="1" lang="en-US" sz="6000" spc="-1" strike="noStrike">
                <a:solidFill>
                  <a:srgbClr val="ffff99"/>
                </a:solidFill>
                <a:latin typeface="Monotype Corsiva"/>
              </a:rPr>
              <a:t> </a:t>
            </a:r>
            <a:r>
              <a:rPr b="1" i="1" lang="ru-RU" sz="6000" spc="-1" strike="noStrike">
                <a:solidFill>
                  <a:srgbClr val="ffff99"/>
                </a:solidFill>
                <a:latin typeface="Monotype Corsiva"/>
              </a:rPr>
              <a:t>л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838080" y="1066680"/>
            <a:ext cx="7620120" cy="5791320"/>
          </a:xfrm>
          <a:prstGeom prst="rect">
            <a:avLst/>
          </a:prstGeom>
          <a:ln cap="rnd" w="9360">
            <a:solidFill>
              <a:srgbClr val="8000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99"/>
                </a:solidFill>
                <a:latin typeface="Monotype Corsiva"/>
              </a:rPr>
              <a:t>Х о к к е й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99"/>
                </a:solidFill>
                <a:latin typeface="Monotype Corsiva"/>
              </a:rPr>
              <a:t>Б о к с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99"/>
                </a:solidFill>
                <a:latin typeface="Monotype Corsiva"/>
              </a:rPr>
              <a:t>Б о б с л е й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28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99"/>
                </a:solidFill>
                <a:latin typeface="Monotype Corsiva"/>
              </a:rPr>
              <a:t>Ф и г у р н о е    к а т а н и е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200240"/>
            <a:ext cx="3867120" cy="56577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 rot="20899800">
            <a:off x="3505320" y="4419360"/>
            <a:ext cx="2438280" cy="2173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 rot="20861400">
            <a:off x="5028840" y="1523880"/>
            <a:ext cx="365760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99"/>
                </a:solidFill>
                <a:latin typeface="Monotype Corsiva"/>
              </a:rPr>
              <a:t>Б а с к е т б о л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2895480"/>
            <a:ext cx="4762440" cy="39625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 rot="20722800">
            <a:off x="3962520" y="1371600"/>
            <a:ext cx="2300040" cy="2438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715000" y="2286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99"/>
                </a:solidFill>
                <a:latin typeface="Monotype Corsiva"/>
              </a:rPr>
              <a:t>В о л е й б о л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3371760"/>
            <a:ext cx="4457880" cy="3486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 rot="1381800">
            <a:off x="4495320" y="4343400"/>
            <a:ext cx="1911600" cy="1828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343400" y="1143000"/>
            <a:ext cx="480060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99"/>
                </a:solidFill>
                <a:latin typeface="Monotype Corsiva"/>
              </a:rPr>
              <a:t>А л ь п и н и з м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4038480" cy="3276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 rot="965400">
            <a:off x="1980720" y="1599840"/>
            <a:ext cx="4762800" cy="31719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257800" y="4022640"/>
            <a:ext cx="38862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2-05-04T06:39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